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0BC6-FD2B-4FE1-8832-E8F695CF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028B-BE97-4DE9-A64E-394103A8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B7DC-E8CA-465D-A921-09581210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1D40-FCEE-4059-9C84-79D9F9F1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85EA-E1C4-4B88-B0BE-2A818840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33BF-58AE-4867-B230-B1852049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3AF0-B34E-4ABC-A4AD-20527AA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F5A2-8FC1-467C-806B-36E90909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035F-5EAE-4260-9632-53B4AB96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7A4D-126E-492B-8E3C-13BB6BFE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B0B7-87F0-4DB2-9A61-2BA79CF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6DD6-1250-494B-AA31-7234D564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ABE0-4F5B-40C5-A525-9742813138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1052280"/>
            <a:ext cx="51166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600"/>
                </a:solidFill>
                <a:latin typeface="Arial"/>
              </a:rPr>
              <a:t>Психолого-педагогические рекомендации для воспитателей по профилактике форм аутодеструктивного поведения у детей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астники проекта: Ялтанская Ольга Владимировна педагог-психолог высшей квалификационной категории, МАДОУ «Детский сад № 25 комбинированного вида» Кировского района г. Казани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ммануйлова Ольга Николаевна педагог-психолог высшей квалификационной категории, МАДОУ «Детский сад № 95 комбинированного вида» Кировского района г. Казани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Ханафеева Алсу Кашафовна педагог-психолог первой квалификационной категории, МАДОУ «Детский сад № 147 воспитания и обучения на татарском языке» Кировского района г. Казан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E:\картинки суицид\3012243.jpg"/>
          <p:cNvPicPr/>
          <p:nvPr/>
        </p:nvPicPr>
        <p:blipFill>
          <a:blip r:embed="rId1"/>
          <a:stretch/>
        </p:blipFill>
        <p:spPr>
          <a:xfrm>
            <a:off x="5796000" y="134784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3152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факторы социального риска в семье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о-экономическ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дико-социаль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о-демограф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олого-педагогическ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мин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оязычные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E:\картинки суицид\040318947.JPG"/>
          <p:cNvPicPr/>
          <p:nvPr/>
        </p:nvPicPr>
        <p:blipFill>
          <a:blip r:embed="rId1"/>
          <a:stretch/>
        </p:blipFill>
        <p:spPr>
          <a:xfrm>
            <a:off x="5580000" y="2852640"/>
            <a:ext cx="27370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4080" y="260280"/>
            <a:ext cx="27288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600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Объект 2"/>
          <p:cNvSpPr/>
          <p:nvPr/>
        </p:nvSpPr>
        <p:spPr>
          <a:xfrm>
            <a:off x="611280" y="765000"/>
            <a:ext cx="820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сихолого-педагогическое сопровождение детей в образовательном пространстве является сегодня одним из признаков позитивного развития системы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ус специалистов системы сопровождения  и отдельных ее уровней требует более четкого юридического определения, кадрового и материально-технического обеспе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ие проблемы в деятельности служб сопровождения обусловлены разобщенностью усилий различных групп специалистов, работающих с детьми и отсутствием информационного обеспечения деятельности специалистов: психологов, логопедов, дефектолог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ем необходимым  обобщение опыта служб сопровождения детей в образовательных учреждениях в форме презентаций, «круглых столов», семинаров для администрации образовательных учре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изировать процесс сотрудничества с учреждениями здравоохранения, соц. защиты и др. ведомств по вопросам сопровождения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3"/>
          <p:cNvSpPr/>
          <p:nvPr/>
        </p:nvSpPr>
        <p:spPr>
          <a:xfrm>
            <a:off x="324000" y="1557360"/>
            <a:ext cx="8618400" cy="1366920"/>
          </a:xfrm>
          <a:prstGeom prst="roundRect">
            <a:avLst>
              <a:gd name="adj" fmla="val 1666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рав, интересов детей и  подростков. Повышение компетентности воспитателей  в вопросах профилактики аутодеструктивного поведения у дет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Овал 4"/>
          <p:cNvSpPr/>
          <p:nvPr/>
        </p:nvSpPr>
        <p:spPr>
          <a:xfrm flipV="1" rot="10800000">
            <a:off x="1428840" y="362520"/>
            <a:ext cx="6408720" cy="1368360"/>
          </a:xfrm>
          <a:prstGeom prst="ellipse">
            <a:avLst/>
          </a:prstGeom>
          <a:solidFill>
            <a:srgbClr val="b5bbc3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кругленный прямоугольник 6"/>
          <p:cNvSpPr/>
          <p:nvPr/>
        </p:nvSpPr>
        <p:spPr>
          <a:xfrm>
            <a:off x="324000" y="4005360"/>
            <a:ext cx="8618400" cy="2716200"/>
          </a:xfrm>
          <a:prstGeom prst="roundRect">
            <a:avLst>
              <a:gd name="adj" fmla="val 1666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ие уважительного отношения к личности ребенка,  к правам и интересам других люд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паганда здорового образа жизн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илактика девиантного и аутодеструктивного поведения детей и подрост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5"/>
          <p:cNvSpPr/>
          <p:nvPr/>
        </p:nvSpPr>
        <p:spPr>
          <a:xfrm flipV="1" rot="10800000">
            <a:off x="1428840" y="2923200"/>
            <a:ext cx="6408720" cy="1368360"/>
          </a:xfrm>
          <a:prstGeom prst="ellipse">
            <a:avLst/>
          </a:prstGeom>
          <a:solidFill>
            <a:srgbClr val="b5bbc3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Статистика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1640" y="3428640"/>
            <a:ext cx="731520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оссии частота суицидальных действий среди молодежи, в течение последних двух десятилетий удвоилась. У 30% лиц в возрасте 14 – 24 лет бывают суицидальные мысли, 6% юношей и 10% девушек совершают суицидальные действия. Некоторые специалисты пишут о том, что в 10% суицидальное поведение имеет цель покончить собой, и в 90% суицидальное поведение подростка – это привлечение к себе вним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E:\картинки суицид\ZHivite_s_bogom.jpg"/>
          <p:cNvPicPr/>
          <p:nvPr/>
        </p:nvPicPr>
        <p:blipFill>
          <a:blip r:embed="rId1"/>
          <a:stretch/>
        </p:blipFill>
        <p:spPr>
          <a:xfrm>
            <a:off x="4788000" y="361800"/>
            <a:ext cx="28321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152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Отношение к смерти детей в разные периоды жизни</a:t>
            </a:r>
            <a:endParaRPr b="0" lang="en-US" sz="2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1966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ошкольном возраст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смерть близких, домашнего животного или сверстника из-за особенностей мышления и ограниченности опыта осознается ребенком как результат его желаний, что нередко приводит к сильному чувству в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младшем школьном возраст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ети считают смерть маловероятной, не осознают ее возможности для себя, не считают необратим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подрост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мерть становится более очевидным явлением. Но они фактически отрицают ее для себ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E:\картинки суицид\Enfant-qui-saute.jpg"/>
          <p:cNvPicPr/>
          <p:nvPr/>
        </p:nvPicPr>
        <p:blipFill>
          <a:blip r:embed="rId1"/>
          <a:stretch/>
        </p:blipFill>
        <p:spPr>
          <a:xfrm>
            <a:off x="2268360" y="4653000"/>
            <a:ext cx="47628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Особенности суицидального поведения детей в разные периоды жизни</a:t>
            </a:r>
            <a:endParaRPr b="0" lang="en-US" sz="2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040" y="1557360"/>
            <a:ext cx="5745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уицидальное поведение в детском возрасте носит характер ситуационно-личностных реакций, т. е. связано собственно не с самим желанием умереть, а со стремлением избежать стрессовых ситуаций или наказани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амоубийство в детском возрасте побуждается гневом, страхом, желанием наказать себя или других нередко суицидальное поведение сочетается с другими поведенческими проблемами, например прогулами школы или конфликта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зникновению суицидального поведения также способствуют тревожные и депрессивные состоя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 целом можно говорить о значительном влиянии на суицидальное поведение подростков межличностных отношений со сверстниками и родителя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E:\картинки суицид\52326_original.jpg"/>
          <p:cNvPicPr/>
          <p:nvPr/>
        </p:nvPicPr>
        <p:blipFill>
          <a:blip r:embed="rId1"/>
          <a:stretch/>
        </p:blipFill>
        <p:spPr>
          <a:xfrm>
            <a:off x="6516720" y="3025800"/>
            <a:ext cx="2220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15800" y="333360"/>
            <a:ext cx="709452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</a:rPr>
              <a:t>Признаки психоэмоционального напряжения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26720" y="1196640"/>
            <a:ext cx="7364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еспокойство, непоседливост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вышенная тревожност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ассеянность, невнимательност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роявление упрямств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гра с половыми органа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Трудность засыпания и беспокойный со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дергивание плечами, качание головой, дрожание ру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невное и ночное недержание мочи, которое ранее не наблюдалос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нижение массы тела или, напротив, проявление симптомов ожир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Усталость после нагрузки, неприсущая ране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еспричинная обидчивость, плаксивость или, наоборот, повышенная агрессивность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тсутствие уверенности в себе, ищет одобрения у взрослы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оянно сосет палец, жует что-нибудь, слишком жадно  или нарушение аппети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оязнь контактов, стремление к уединению, отказ участвовать в играх сверстник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бъект 2"/>
          <p:cNvSpPr/>
          <p:nvPr/>
        </p:nvSpPr>
        <p:spPr>
          <a:xfrm>
            <a:off x="1027080" y="1666800"/>
            <a:ext cx="38368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294920"/>
            <a:ext cx="6729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</a:rPr>
              <a:t>Принципы профилактической работы аутодеструктивного поведения у детей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го подхода в профилак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ежающее сопрово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E:\картинки суицид\ea3268cc7e8c8915c98df747c5b3c7cc.jpg"/>
          <p:cNvPicPr/>
          <p:nvPr/>
        </p:nvPicPr>
        <p:blipFill>
          <a:blip r:embed="rId1"/>
          <a:stretch/>
        </p:blipFill>
        <p:spPr>
          <a:xfrm>
            <a:off x="6516720" y="2781360"/>
            <a:ext cx="24429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</a:rPr>
              <a:t>Формы профилактики аутодеструктивного  поведения у детей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1412640"/>
            <a:ext cx="69832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социально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ое обучение социально-важным навык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деятельности, альтернативной деви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изация личност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нимизация негативных последствий девиантного по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E:\картинки суицид\126487.jpg"/>
          <p:cNvPicPr/>
          <p:nvPr/>
        </p:nvPicPr>
        <p:blipFill>
          <a:blip r:embed="rId1"/>
          <a:stretch/>
        </p:blipFill>
        <p:spPr>
          <a:xfrm>
            <a:off x="5364000" y="4592520"/>
            <a:ext cx="3024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056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</a:rPr>
              <a:t>Игровые технологии профилактики и коррекции отклоняющегося поведения дошкольников  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1628640"/>
            <a:ext cx="73152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гры с правилами, игры-соревн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гры-драматизации, образно-ролевы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ктивные дидактические иг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южетно-ролевая иг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отехнические освобождающие игры и режиссерски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E:\картинки суицид\10(37).jpg"/>
          <p:cNvPicPr/>
          <p:nvPr/>
        </p:nvPicPr>
        <p:blipFill>
          <a:blip r:embed="rId1"/>
          <a:stretch/>
        </p:blipFill>
        <p:spPr>
          <a:xfrm>
            <a:off x="4716360" y="3573360"/>
            <a:ext cx="37879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4:05:29Z</dcterms:created>
  <dc:creator>Василёк</dc:creator>
  <dc:description/>
  <dc:language>en-US</dc:language>
  <cp:lastModifiedBy>user</cp:lastModifiedBy>
  <dcterms:modified xsi:type="dcterms:W3CDTF">2015-09-29T04:30:27Z</dcterms:modified>
  <cp:revision>22</cp:revision>
  <dc:subject/>
  <dc:title>Психолого-педагогические рекомендации для воспитателей по профилактике форм аутодеструктивного поведения у детей</dc:title>
</cp:coreProperties>
</file>